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ECA-98F6-4EAC-B349-D4595435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6BF-6A96-47E7-A8B9-FA4BB17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3E1-880B-4AC6-9CEE-F1538D09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3FD-9D5C-4241-BC91-DB251B3B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98E-5F4B-4E2D-8048-EF58095B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0B4-FC54-40C0-83DE-340AEA0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2AC-6E6E-4C69-B5E4-5907BEC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ACD-E201-4179-8B5D-1806D4D7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184-5293-41B2-86B5-D48092C4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1C1-3CC2-4EFC-9E88-9781CA5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121-E844-44DE-AF78-27599EB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745-84A2-44C5-B5AD-2B7EADB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6CBC-B08A-437D-A1AB-9482BF7EC88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3.0.xxxx.2011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rtl8192_8188CU_linux_v3.0.2052.20110701 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1-07-05T02:38:30Z</dcterms:modified>
  <cp:revision>133</cp:revision>
  <dc:subject/>
  <dc:title>投影片 1</dc:title>
</cp:coreProperties>
</file>